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1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move the slide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1C6B-5DC4-41EE-BAD3-96687FADFF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FDA5F-C803-498F-BF78-89D3F3A6E7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3E890-22BF-4708-ABD9-A394B46D58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2824-1F07-48DC-A1C1-D35CB51DAB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1AF7D-838B-4897-BCB6-CE97E08858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368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03F1D-398E-495B-8A33-2D3C46D356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2390-06E1-4797-8351-34EE6786C4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15AA2-BA05-470D-9D37-E32473870C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7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D8832-B447-41D2-9E48-0B0CDEA1D7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0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15940-E178-4E42-A053-0C97DAC513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83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EF677-6EB3-423A-9681-60D345DF2B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EA5B1-150B-4D11-9397-A58E454B1E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5665E-7ADB-41B4-B462-40F74767BB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1218E-BCA0-400A-9A98-54A91C0C86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8863D-D430-4D79-AF52-1E970B542C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5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4A91-5DF4-4BC6-80BD-50B84BA6E1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3E16-5A70-496F-BD6E-70A2E7BC5B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Text Box 3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F9B39-5D18-4914-89AE-F010EE0B9D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0239-3ABA-46EB-8147-88BABFFC2A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5BCC-AD66-49FF-AE30-EE7DB3691F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8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569D9-2298-4476-9135-F4D39EF41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36DEF-EB33-41A6-9F76-1470C493C6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1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166E-E159-4E5E-BD1A-BA1D5FCA8B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0984B-FBD3-42E4-8211-5BE2FFF1DA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9F92C-DF58-4BD9-987A-7E02D8C096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DE78-E47A-4A52-BEFD-D19D932410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DCB2-7275-4AC8-8785-1B0B050402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B9CC5-2D53-402B-BC07-496BF06B78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DC02E-445B-4F9B-8192-A57BDED466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055A-533A-4D05-B665-8801E6F53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74CB-E14D-4E0B-8C96-24929DB42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5C8-C142-41CA-822F-9041DCBE7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D96A-01E6-4604-A551-D13A6889A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26B-ACB3-4537-BF2D-4112A0E4D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3C6-1673-4FAD-8687-44C100E0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52B-B378-4EA9-B2D2-1F39690E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B07-CD83-4845-A7EA-CD0F6052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1DA-68BC-4792-A868-5A1719A2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606-5C67-49C8-9C4A-C002FF3A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7EF-1ECF-4AD9-A092-917AE98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C90A-4A73-4009-A3FD-0A4C2D732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974-31E7-4467-BFC3-C6458D68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67F-4A4F-45E1-A8C1-90076469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FE8-757D-4755-84E4-25145F3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85B-88D0-4196-8656-B939F50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2C7-841F-445A-A113-14FD1B4D7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49A3B-3EB1-495C-AA74-713110562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15C49-51FA-44F3-9784-7BFA238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A7A8-0F5F-46AF-83D1-9E21A3E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814A0-9321-48E7-B981-3D85FF15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F3A0E-BB23-40D4-B403-89E809C3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A181-296A-456E-A997-962F603F3E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A6DD-7574-49F9-82D3-29A7774A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16E9-880E-4351-8919-E4500A5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6758C-A282-4B5A-BC19-479A2CC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16D5B-5FEB-4850-A666-19D3FE3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579A3-E4EC-4E66-B9CB-D8A1F18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89E2-B9EB-4548-9536-5BA8341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C560-153A-4775-B410-9B2A75E55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CA2C6-AFF9-460C-9DB5-9D6FC709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735FA-D80B-403E-BB7B-4D02BF6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D087C-8421-4CA4-8696-A4C9F1A4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AE91-6875-4336-9109-48B9ABE86D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DC441-A577-4FEF-AF50-077AF3D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6A985-C99B-484F-9051-B7F0D5E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AA6F8-354C-40FA-BDEA-2DA0698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1ADE6-C2C1-4CA6-B83D-28D7D839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4ED11-5EE3-4092-8AF1-B571260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14257-F871-4753-BCE5-49B5724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BE01C-5B6B-4A60-9EE5-1514276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85020-96E5-4B90-A65F-8315CD21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0F8BF-60B9-46F2-9F5A-021E2691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23EF-1F45-4A6D-A7A8-DF5FD7886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3E58-2216-4DEE-933B-811FFBE1E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FB8C-2AE0-4B44-8FA5-EFD93C8AB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4B98-6CC4-4A5A-A0B0-A80FC897D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A34B-BD0A-4413-ABA0-55B4E7D09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edit the title text format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9FDB-142F-4AB5-90CD-A52D2632B3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82F12-151F-4549-BDAB-91B2B3281DE8}" type="datetime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503920" y="7322760"/>
            <a:ext cx="106668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800" spc="-1" strike="noStrike">
                <a:solidFill>
                  <a:srgbClr val="bfbfb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921DD82-59A4-4EE9-A52C-DE294AA4DAD2}" type="slidenum">
              <a:rPr b="0" lang="ru-RU" sz="800" spc="-1" strike="noStrike">
                <a:solidFill>
                  <a:srgbClr val="bfbfbf"/>
                </a:solidFill>
                <a:latin typeface="Calibri"/>
                <a:ea typeface="Segoe U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-9360" y="-7920"/>
            <a:ext cx="10101240" cy="1147680"/>
          </a:xfrm>
          <a:custGeom>
            <a:avLst/>
            <a:gdLst>
              <a:gd name="textAreaLeft" fmla="*/ 0 w 10101240"/>
              <a:gd name="textAreaRight" fmla="*/ 10101600 w 101012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101263" h="1147763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7058"/>
                </a:srgbClr>
              </a:gs>
              <a:gs pos="100000">
                <a:srgbClr val="00c4cd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>
                  <a:alpha val="32156"/>
                </a:srgbClr>
              </a:gs>
              <a:gs pos="100000">
                <a:srgbClr val="008abf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-93600" y="-545760"/>
            <a:ext cx="10246680" cy="2250000"/>
            <a:chOff x="-93600" y="-545760"/>
            <a:chExt cx="10246680" cy="2250000"/>
          </a:xfrm>
        </p:grpSpPr>
        <p:sp>
          <p:nvSpPr>
            <p:cNvPr id="86" name="AutoShape 4"/>
            <p:cNvSpPr/>
            <p:nvPr/>
          </p:nvSpPr>
          <p:spPr>
            <a:xfrm rot="21420000">
              <a:off x="-55440" y="-280800"/>
              <a:ext cx="10162800" cy="1720800"/>
            </a:xfrm>
            <a:custGeom>
              <a:avLst/>
              <a:gdLst>
                <a:gd name="textAreaLeft" fmla="*/ 0 w 10162800"/>
                <a:gd name="textAreaRight" fmla="*/ 10162800 w 101628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6374" h="752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5"/>
            <p:cNvSpPr/>
            <p:nvPr/>
          </p:nvSpPr>
          <p:spPr>
            <a:xfrm rot="21420000">
              <a:off x="-51840" y="-83880"/>
              <a:ext cx="10175400" cy="1404360"/>
            </a:xfrm>
            <a:custGeom>
              <a:avLst/>
              <a:gdLst>
                <a:gd name="textAreaLeft" fmla="*/ 0 w 10175400"/>
                <a:gd name="textAreaRight" fmla="*/ 10175760 w 10175400"/>
                <a:gd name="textAreaTop" fmla="*/ 0 h 1404360"/>
                <a:gd name="textAreaBottom" fmla="*/ 1404720 h 1404360"/>
              </a:gdLst>
              <a:ahLst/>
              <a:rect l="textAreaLeft" t="textAreaTop" r="textAreaRight" b="textAreaBottom"/>
              <a:pathLst>
                <a:path w="6382" h="61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67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2133720"/>
            <a:ext cx="9067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2D06E-DE52-4886-A2F1-73D8AD6B665B}" type="datetime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736120" y="7007400"/>
            <a:ext cx="836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432D0B-F4C5-45E0-930D-835C0FBE3291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-9360" y="-7920"/>
            <a:ext cx="10099440" cy="114768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099675" h="1147763">
                <a:moveTo>
                  <a:pt x="0" y="0"/>
                </a:moveTo>
                <a:lnTo>
                  <a:pt x="28057" y="0"/>
                </a:lnTo>
                <a:lnTo>
                  <a:pt x="28057" y="3188"/>
                </a:lnTo>
                <a:lnTo>
                  <a:pt x="0" y="31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lnTo>
                  <a:pt x="14582" y="0"/>
                </a:lnTo>
                <a:lnTo>
                  <a:pt x="14582" y="1953"/>
                </a:lnTo>
                <a:lnTo>
                  <a:pt x="0" y="195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21420000">
            <a:off x="-20520" y="223560"/>
            <a:ext cx="10099440" cy="71424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0099676" h="714375">
                <a:moveTo>
                  <a:pt x="0" y="0"/>
                </a:moveTo>
                <a:lnTo>
                  <a:pt x="28057" y="0"/>
                </a:lnTo>
                <a:lnTo>
                  <a:pt x="28057" y="1986"/>
                </a:lnTo>
                <a:lnTo>
                  <a:pt x="0" y="1986"/>
                </a:lnTo>
                <a:lnTo>
                  <a:pt x="0" y="0"/>
                </a:lnTo>
                <a:close/>
              </a:path>
            </a:pathLst>
          </a:custGeom>
          <a:noFill/>
          <a:ln w="10800">
            <a:solidFill>
              <a:srgbClr val="008a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21420000">
            <a:off x="-15480" y="304560"/>
            <a:ext cx="10113840" cy="583920"/>
          </a:xfrm>
          <a:custGeom>
            <a:avLst/>
            <a:gdLst>
              <a:gd name="textAreaLeft" fmla="*/ 0 w 10113840"/>
              <a:gd name="textAreaRight" fmla="*/ 10114200 w 1011384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0113963" h="584200">
                <a:moveTo>
                  <a:pt x="0" y="0"/>
                </a:moveTo>
                <a:lnTo>
                  <a:pt x="28096" y="0"/>
                </a:lnTo>
                <a:lnTo>
                  <a:pt x="28096" y="1623"/>
                </a:lnTo>
                <a:lnTo>
                  <a:pt x="0" y="1623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7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C62A4-4382-443D-AF07-5EDE67752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682560" y="279360"/>
            <a:ext cx="9070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Русский язы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00000" y="1779480"/>
            <a:ext cx="2172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entury"/>
              </a:rPr>
              <a:t>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573200" y="3090960"/>
            <a:ext cx="696744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D5772-1139-4992-BDA7-EF379595DE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DB10-257B-4D8C-ACE7-B8FD0B2AF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736120" y="7007400"/>
            <a:ext cx="839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BA7DA-98E0-4956-AB38-8F30AF13FFEB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8537"/>
          <a:stretch/>
        </p:blipFill>
        <p:spPr>
          <a:xfrm>
            <a:off x="1833480" y="272880"/>
            <a:ext cx="6734160" cy="671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611280"/>
            <a:ext cx="9069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300"/>
            </a:br>
            <a:br>
              <a:rPr sz="7300"/>
            </a:b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План работы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008000" y="2808360"/>
            <a:ext cx="8785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Какую роль выполняет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 каких словах ставится      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1655640" y="63360"/>
            <a:ext cx="624204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755640" y="824040"/>
            <a:ext cx="8569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12720" y="2494080"/>
            <a:ext cx="7056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Ударение- это выделение голосом одного из слогов в сло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3280" y="755640"/>
            <a:ext cx="90694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mbria"/>
              </a:rPr>
              <a:t>Что такое ударение? 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Произнесите слова, выделяя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39640" y="1779480"/>
            <a:ext cx="152244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3"/>
          <a:srcRect l="0" t="10630" r="0" b="14372"/>
          <a:stretch/>
        </p:blipFill>
        <p:spPr>
          <a:xfrm>
            <a:off x="7683480" y="4208400"/>
            <a:ext cx="2198880" cy="1720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rcRect l="0" t="0" r="23560" b="0"/>
          <a:stretch/>
        </p:blipFill>
        <p:spPr>
          <a:xfrm>
            <a:off x="2468520" y="3565440"/>
            <a:ext cx="1774800" cy="323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4821120" y="4773600"/>
            <a:ext cx="2646360" cy="199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6"/>
          <a:stretch/>
        </p:blipFill>
        <p:spPr>
          <a:xfrm>
            <a:off x="7540560" y="1922400"/>
            <a:ext cx="1617840" cy="1381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4608360" y="2195640"/>
            <a:ext cx="2384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755640" y="-558720"/>
            <a:ext cx="85694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368360" y="1547640"/>
            <a:ext cx="7056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огда ударение меняет значение слов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танцевальные)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пара,дым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 flipV="1">
            <a:off x="3311640" y="2766960"/>
            <a:ext cx="131760" cy="22248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887640" y="3559320"/>
            <a:ext cx="136800" cy="22536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2612880" y="720720"/>
            <a:ext cx="40100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787320" y="708120"/>
            <a:ext cx="8032680" cy="56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673200" y="922320"/>
            <a:ext cx="8037360" cy="543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rcRect l="0" t="96947" r="94066" b="0"/>
          <a:stretch/>
        </p:blipFill>
        <p:spPr>
          <a:xfrm>
            <a:off x="708120" y="6378480"/>
            <a:ext cx="2016000" cy="703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4"/>
          <a:srcRect l="50332" t="0" r="0" b="0"/>
          <a:stretch/>
        </p:blipFill>
        <p:spPr>
          <a:xfrm>
            <a:off x="4646520" y="1181160"/>
            <a:ext cx="3946680" cy="537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5"/>
          <a:srcRect l="93592" t="96947" r="0" b="0"/>
          <a:stretch/>
        </p:blipFill>
        <p:spPr>
          <a:xfrm>
            <a:off x="6615000" y="6378480"/>
            <a:ext cx="1968480" cy="6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rcRect l="0" t="0" r="49935" b="0"/>
          <a:stretch/>
        </p:blipFill>
        <p:spPr>
          <a:xfrm>
            <a:off x="314280" y="787320"/>
            <a:ext cx="4332240" cy="5748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rcRect l="50069" t="0" r="0" b="0"/>
          <a:stretch/>
        </p:blipFill>
        <p:spPr>
          <a:xfrm>
            <a:off x="4646520" y="787320"/>
            <a:ext cx="4321440" cy="574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rcRect l="1486" t="95966" r="93508" b="978"/>
          <a:stretch/>
        </p:blipFill>
        <p:spPr>
          <a:xfrm>
            <a:off x="314280" y="6299280"/>
            <a:ext cx="1739880" cy="709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rcRect l="92949" t="95966" r="1581" b="978"/>
          <a:stretch/>
        </p:blipFill>
        <p:spPr>
          <a:xfrm>
            <a:off x="7245360" y="6378480"/>
            <a:ext cx="1689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5B54-E3B7-4863-8996-AF2083BA17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D84B3-4F1E-46EB-86F4-AB1F66283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rcRect l="7478" t="3490" r="5902" b="3490"/>
          <a:stretch/>
        </p:blipFill>
        <p:spPr>
          <a:xfrm>
            <a:off x="754200" y="604800"/>
            <a:ext cx="8731080" cy="63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rcRect l="0" t="0" r="50536" b="0"/>
          <a:stretch/>
        </p:blipFill>
        <p:spPr>
          <a:xfrm>
            <a:off x="314280" y="944640"/>
            <a:ext cx="4253040" cy="582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3"/>
          <a:srcRect l="49721" t="0" r="0" b="0"/>
          <a:stretch/>
        </p:blipFill>
        <p:spPr>
          <a:xfrm>
            <a:off x="4567320" y="826920"/>
            <a:ext cx="4410000" cy="5945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4"/>
          <a:srcRect l="935" t="95339" r="93851" b="963"/>
          <a:stretch/>
        </p:blipFill>
        <p:spPr>
          <a:xfrm>
            <a:off x="236520" y="6458040"/>
            <a:ext cx="1338120" cy="64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5"/>
          <a:srcRect l="93103" t="95339" r="1588" b="0"/>
          <a:stretch/>
        </p:blipFill>
        <p:spPr>
          <a:xfrm>
            <a:off x="7718400" y="6535800"/>
            <a:ext cx="110160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3280" y="324000"/>
            <a:ext cx="9070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mbria"/>
              </a:rPr>
              <a:t>В каких словах ставится       ударение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В каждом слове спряталось животное, насекомое или птица. Найди их и напиши эти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503280" y="2771640"/>
            <a:ext cx="90709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левизор, коньки, листок, мужчина, ракита, чертёж, стри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224000" y="3419640"/>
            <a:ext cx="863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3600360" y="3414600"/>
            <a:ext cx="1224000" cy="2088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761080" y="3419640"/>
            <a:ext cx="85716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 flipV="1">
            <a:off x="1295280" y="4135320"/>
            <a:ext cx="687600" cy="1440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456000" y="4140360"/>
            <a:ext cx="100008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696000" y="4140360"/>
            <a:ext cx="647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863640" y="4788000"/>
            <a:ext cx="144000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039680" y="2136600"/>
            <a:ext cx="853308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Знак ударения не ставится над            словом из одного слога и над   буквой ё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EADF6-97EE-4C04-9DEC-2CBDD37619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3EE6D-F58D-499F-A523-6333DD93E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це село за се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ужасно повезл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в гости к Ударению сход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се его секреты мы раскры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 </a:t>
            </a: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Удар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 конечно, «мОлодец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каждый из нас «молодЕц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7416720" y="1619280"/>
            <a:ext cx="181152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2776" t="3701" r="3701" b="7407"/>
          <a:stretch/>
        </p:blipFill>
        <p:spPr>
          <a:xfrm>
            <a:off x="1468440" y="1557360"/>
            <a:ext cx="833436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795240" y="3203640"/>
            <a:ext cx="856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9AE1-B7FA-47C9-A54B-DF42D8DE99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AB83-AC34-428E-9F92-630696A23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rcRect l="0" t="0" r="0" b="69481"/>
          <a:stretch/>
        </p:blipFill>
        <p:spPr>
          <a:xfrm>
            <a:off x="276120" y="1398600"/>
            <a:ext cx="9802800" cy="174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rcRect l="0" t="0" r="31168" b="69481"/>
          <a:stretch/>
        </p:blipFill>
        <p:spPr>
          <a:xfrm>
            <a:off x="434880" y="3144960"/>
            <a:ext cx="6748560" cy="174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rcRect l="0" t="0" r="31168" b="69481"/>
          <a:stretch/>
        </p:blipFill>
        <p:spPr>
          <a:xfrm>
            <a:off x="595440" y="5049720"/>
            <a:ext cx="6748200" cy="1746360"/>
          </a:xfrm>
          <a:prstGeom prst="rect">
            <a:avLst/>
          </a:prstGeom>
          <a:ln w="0">
            <a:noFill/>
          </a:ln>
        </p:spPr>
      </p:pic>
      <p:sp>
        <p:nvSpPr>
          <p:cNvPr id="196" name="Oval 7"/>
          <p:cNvSpPr/>
          <p:nvPr/>
        </p:nvSpPr>
        <p:spPr>
          <a:xfrm>
            <a:off x="7340760" y="4017960"/>
            <a:ext cx="237960" cy="23796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626240" y="5889600"/>
            <a:ext cx="225360" cy="2253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66880" y="1574640"/>
            <a:ext cx="8567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300" spc="-1" strike="noStrike" u="sng">
                <a:solidFill>
                  <a:srgbClr val="000000"/>
                </a:solidFill>
                <a:uFillTx/>
                <a:latin typeface="Cambria"/>
              </a:rPr>
              <a:t>Т А И З Н Ы О Р У  Э</a:t>
            </a: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C42C9-F74B-4D2A-AB99-CD0B6D60F3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E7B78-7902-46FA-82C2-7961CCA89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87760" y="2913120"/>
            <a:ext cx="50760" cy="3228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022480" y="3463920"/>
            <a:ext cx="739800" cy="714240"/>
          </a:xfrm>
          <a:prstGeom prst="rect">
            <a:avLst/>
          </a:prstGeom>
          <a:solidFill>
            <a:srgbClr val="c0504d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786720" y="2984400"/>
            <a:ext cx="739440" cy="714600"/>
          </a:xfrm>
          <a:prstGeom prst="rect">
            <a:avLst/>
          </a:prstGeom>
          <a:solidFill>
            <a:srgbClr val="0070c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786720" y="4811760"/>
            <a:ext cx="793440" cy="71424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7381A-B539-496F-B9A4-2EA25C585E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13C8-FAF1-494A-B41D-E9B27280B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598840" y="393696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960800" y="39369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98840" y="2441520"/>
            <a:ext cx="152352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040360" y="2441520"/>
            <a:ext cx="37018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487760" y="2678040"/>
            <a:ext cx="473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80000" y="1495440"/>
            <a:ext cx="2626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ЗОВ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B05D2-9D9B-4B6E-B6BE-CEE60FDFAB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4EF9C-45DB-49C1-BE6C-34330A2F9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519280" y="33861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040360" y="3386160"/>
            <a:ext cx="16794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071520" y="1731960"/>
            <a:ext cx="1112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275440" y="1654200"/>
            <a:ext cx="93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4173480" y="2282760"/>
            <a:ext cx="78732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80CA0-3C77-4CA9-A756-8A1341D6C7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1130D-51BC-49A7-B7D2-6BA19C366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66520" y="5591160"/>
            <a:ext cx="7822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ывод сделаем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лько частей  распалось каждое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CE1D-7294-4C02-B863-A573577A1F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70624-DFA4-4D95-80C2-0C2291543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980280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727236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 rot="5400000">
            <a:off x="39600" y="-29880"/>
            <a:ext cx="506520" cy="5731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rot="16200000">
            <a:off x="9529920" y="7013520"/>
            <a:ext cx="504720" cy="5875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7054920"/>
            <a:ext cx="573120" cy="5047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0980000">
            <a:off x="9559800" y="2520"/>
            <a:ext cx="525600" cy="59508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6048360"/>
            <a:ext cx="949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223040" y="7007400"/>
            <a:ext cx="2351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56545-EF47-4F2A-82A6-AE8BB9FD3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2"/>
          <a:stretch/>
        </p:blipFill>
        <p:spPr>
          <a:xfrm>
            <a:off x="214200" y="254160"/>
            <a:ext cx="9528120" cy="6905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1935000" y="4400640"/>
            <a:ext cx="5658120" cy="1774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4"/>
          <a:stretch/>
        </p:blipFill>
        <p:spPr>
          <a:xfrm>
            <a:off x="1654200" y="3170160"/>
            <a:ext cx="312408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5"/>
          <a:stretch/>
        </p:blipFill>
        <p:spPr>
          <a:xfrm>
            <a:off x="1968480" y="2136600"/>
            <a:ext cx="5583240" cy="383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6"/>
          <a:stretch/>
        </p:blipFill>
        <p:spPr>
          <a:xfrm>
            <a:off x="3633840" y="2136600"/>
            <a:ext cx="2566800" cy="4125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7"/>
          <a:stretch/>
        </p:blipFill>
        <p:spPr>
          <a:xfrm>
            <a:off x="5141880" y="2136600"/>
            <a:ext cx="2648160" cy="383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8"/>
          <a:stretch/>
        </p:blipFill>
        <p:spPr>
          <a:xfrm>
            <a:off x="5894280" y="2103480"/>
            <a:ext cx="1619280" cy="407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9"/>
          <a:stretch/>
        </p:blipFill>
        <p:spPr>
          <a:xfrm>
            <a:off x="4529160" y="2001960"/>
            <a:ext cx="4349880" cy="426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0"/>
          <a:stretch/>
        </p:blipFill>
        <p:spPr>
          <a:xfrm>
            <a:off x="5018040" y="3608280"/>
            <a:ext cx="3603600" cy="2695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1"/>
          <a:stretch/>
        </p:blipFill>
        <p:spPr>
          <a:xfrm>
            <a:off x="7526160" y="4543560"/>
            <a:ext cx="1224000" cy="1592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1"/>
          <p:cNvSpPr/>
          <p:nvPr/>
        </p:nvSpPr>
        <p:spPr>
          <a:xfrm>
            <a:off x="434880" y="6249960"/>
            <a:ext cx="851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34880" y="4024440"/>
            <a:ext cx="52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34880" y="309600"/>
            <a:ext cx="74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2183040" y="353880"/>
            <a:ext cx="61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225680" y="368280"/>
            <a:ext cx="730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978600" y="379440"/>
            <a:ext cx="680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8849880" y="406440"/>
            <a:ext cx="461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7797960" y="2351160"/>
            <a:ext cx="397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7829280" y="4284720"/>
            <a:ext cx="616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е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8612280" y="6451560"/>
            <a:ext cx="753840" cy="601560"/>
          </a:xfrm>
          <a:custGeom>
            <a:avLst/>
            <a:gdLst>
              <a:gd name="textAreaLeft" fmla="*/ 38880 w 753840"/>
              <a:gd name="textAreaRight" fmla="*/ 714960 w 75384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065" h="21600">
                <a:moveTo>
                  <a:pt x="0" y="0"/>
                </a:moveTo>
                <a:lnTo>
                  <a:pt x="27065" y="0"/>
                </a:lnTo>
                <a:lnTo>
                  <a:pt x="27065" y="21600"/>
                </a:lnTo>
                <a:lnTo>
                  <a:pt x="0" y="21600"/>
                </a:lnTo>
                <a:close/>
              </a:path>
              <a:path fill="lightenLess" w="27065" h="21600">
                <a:moveTo>
                  <a:pt x="0" y="0"/>
                </a:moveTo>
                <a:lnTo>
                  <a:pt x="27065" y="0"/>
                </a:lnTo>
                <a:lnTo>
                  <a:pt x="25665" y="1400"/>
                </a:lnTo>
                <a:lnTo>
                  <a:pt x="1400" y="1400"/>
                </a:lnTo>
                <a:close/>
              </a:path>
              <a:path fill="darken" w="27065" h="21600">
                <a:moveTo>
                  <a:pt x="27065" y="0"/>
                </a:moveTo>
                <a:lnTo>
                  <a:pt x="27065" y="21600"/>
                </a:lnTo>
                <a:lnTo>
                  <a:pt x="25665" y="20200"/>
                </a:lnTo>
                <a:lnTo>
                  <a:pt x="25665" y="1400"/>
                </a:lnTo>
                <a:close/>
              </a:path>
              <a:path fill="darkenLess" w="27065" h="21600">
                <a:moveTo>
                  <a:pt x="27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65" y="20200"/>
                </a:lnTo>
                <a:close/>
              </a:path>
              <a:path fill="lighten" w="27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65" h="21600">
                <a:moveTo>
                  <a:pt x="13532" y="3837"/>
                </a:moveTo>
                <a:lnTo>
                  <a:pt x="16109" y="6448"/>
                </a:ln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lnTo>
                  <a:pt x="20495" y="10800"/>
                </a:lnTo>
                <a:lnTo>
                  <a:pt x="18842" y="10800"/>
                </a:lnTo>
                <a:lnTo>
                  <a:pt x="18842" y="17989"/>
                </a:lnTo>
                <a:lnTo>
                  <a:pt x="8223" y="17989"/>
                </a:lnTo>
                <a:lnTo>
                  <a:pt x="8223" y="10800"/>
                </a:lnTo>
                <a:lnTo>
                  <a:pt x="6569" y="10800"/>
                </a:lnTo>
                <a:close/>
              </a:path>
              <a:path fill="darkenLess" w="27065" h="21600">
                <a:moveTo>
                  <a:pt x="16109" y="6448"/>
                </a:move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close/>
              </a:path>
              <a:path fill="darkenLess" w="27065" h="21600">
                <a:moveTo>
                  <a:pt x="12610" y="14299"/>
                </a:moveTo>
                <a:lnTo>
                  <a:pt x="14455" y="14299"/>
                </a:lnTo>
                <a:lnTo>
                  <a:pt x="14455" y="17989"/>
                </a:lnTo>
                <a:lnTo>
                  <a:pt x="18842" y="17989"/>
                </a:lnTo>
                <a:lnTo>
                  <a:pt x="18842" y="10800"/>
                </a:lnTo>
                <a:lnTo>
                  <a:pt x="8223" y="10800"/>
                </a:lnTo>
                <a:lnTo>
                  <a:pt x="8223" y="17989"/>
                </a:lnTo>
                <a:lnTo>
                  <a:pt x="12610" y="17989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7578720" y="6583320"/>
            <a:ext cx="87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 3 с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Лидия</cp:lastModifiedBy>
  <dcterms:modified xsi:type="dcterms:W3CDTF">2020-03-31T09:09:56Z</dcterms:modified>
  <cp:revision>31</cp:revision>
  <dc:subject/>
  <dc:title>весна</dc:title>
</cp:coreProperties>
</file>